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71CB-C03F-443A-9103-79FD57557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1631-F159-4526-8415-887FD0B7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24ED-4F9B-4BF6-8A8D-5BFF6BAF7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0885-FE26-4D65-990C-501ED398C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2F84-2CD2-41B5-B86D-7623F6E8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3BDC-4A15-4AFF-A866-C18C464B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C890-0584-40C8-B3A3-A6CD5293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9CD0-5EA9-40DA-9912-C2BBFD7C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BAF4-C3E2-435F-9667-635D4ABE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30E0-AB78-4559-BA91-E04A83DE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72D6-A9F1-4A4B-8B99-DFFA7FB6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E812-7843-4AFF-8715-285FE06C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1854-2C06-48C4-A7C7-0AF2AA95D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4638600"/>
            <a:ext cx="5581800" cy="900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60920" y="4638600"/>
            <a:ext cx="901440" cy="900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3071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6560" y="189000"/>
            <a:ext cx="6592320" cy="44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3. Wärme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n zweier Körper im Kontakt gleichen sich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bertragung von Wärme (Energi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ärmestrom          = Wärmemenge die pro Zeit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                           durch eine Fläche transportiert w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ärmestromdichte = Wärmestrom pro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                           (Querschnitts)-Fläche </a:t>
            </a:r>
            <a:br>
              <a:rPr sz="20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156440" y="2333520"/>
          <a:ext cx="1222560" cy="8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56440" y="2333520"/>
                    <a:ext cx="122256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219800" y="3205080"/>
          <a:ext cx="1092240" cy="8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19800" y="3205080"/>
                    <a:ext cx="109224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600200" y="4861080"/>
            <a:ext cx="531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0829000">
            <a:off x="4345200" y="4908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76840" y="55832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60920" y="5627520"/>
            <a:ext cx="63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70560" y="499752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93440" y="4997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490560" y="4457880"/>
            <a:ext cx="12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48120" y="4189320"/>
            <a:ext cx="33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7320" y="6105600"/>
            <a:ext cx="31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ärmeleitungsgleichu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93960" y="5884920"/>
          <a:ext cx="1508400" cy="80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93960" y="5884920"/>
                    <a:ext cx="150840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475920" y="189000"/>
            <a:ext cx="743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2 Innere Energie, erster Hauptsatz d. Wärmeleh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19120" y="10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08120" y="1181160"/>
            <a:ext cx="7864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wärmung bei konstanten Volum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geführte Wärme wird komplett in (ungeordneter) Bewegungsenergie 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küle gespeichert. Man diese Bewegungsenergie auch d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0ed8"/>
                </a:solidFill>
                <a:latin typeface="Arial"/>
              </a:rPr>
              <a:t>innere Energie </a:t>
            </a:r>
            <a:r>
              <a:rPr b="0" lang="en-US" sz="1800" spc="-1" strike="noStrike">
                <a:solidFill>
                  <a:srgbClr val="1c0ed8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1c0ed8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wärmung bei konstantem Dru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geführte Wärme wird nur teilweise in innerer Energie gespeicher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andere Teil verrichtet mechanische Arbeit (Volumenarbeit) W = p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nz allgemein gilt:     </a:t>
            </a: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Q = </a:t>
            </a:r>
            <a:r>
              <a:rPr b="0" lang="en-US" sz="1800" spc="-1" strike="noStrike">
                <a:solidFill>
                  <a:srgbClr val="ca2114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U + W        (erster Hauptsatz der Wärmeleh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agt, dass zugefühhrte Wärme in innere Energie und mechanische Arb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gewandelt wird, dass also die Gesamtenergie erhalten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477360" y="189000"/>
            <a:ext cx="567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3 Zweiter Hauptsatz der Wärmeleh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25600" y="1751040"/>
            <a:ext cx="734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erste Hauptsatz</a:t>
            </a: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 Q = </a:t>
            </a:r>
            <a:r>
              <a:rPr b="0" lang="en-US" sz="1800" spc="-1" strike="noStrike">
                <a:solidFill>
                  <a:srgbClr val="ca2114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U + 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ässt offen, wieviel der Wär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innere Energie geht, wieviel in mechanische Arbe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zweite Hauptsatz besag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Die einem System zugeführte Wärme kann &gt;prinzipiell&lt; nicht zu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in mechanische Arbeit umgewandel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ist z.B. nicht möglich ein Schiff zu betreiben indem man dem Oz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ärme entzieht und damit den Schiffsmotor betrei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479160" y="446040"/>
            <a:ext cx="60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 Aggregatzustände, Phasenübergäng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1 Umwandlungswä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880920" y="1538280"/>
            <a:ext cx="4678200" cy="467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26"/>
                </a:moveTo>
                <a:arcTo wR="10800" hR="10800" stAng="8299" swAng="21591701"/>
                <a:lnTo>
                  <a:pt x="10800" y="10800"/>
                </a:lnTo>
                <a:close/>
              </a:path>
              <a:path fill="none" w="21600" h="21600">
                <a:moveTo>
                  <a:pt x="21600" y="10826"/>
                </a:moveTo>
                <a:arcTo wR="10800" hR="10800" stAng="8299" swAng="21591701"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884160" y="1541520"/>
            <a:ext cx="4678200" cy="467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02" y="19192"/>
                </a:moveTo>
                <a:arcTo wR="10800" hR="10800" stAng="7740471" swAng="13859529"/>
                <a:lnTo>
                  <a:pt x="10800" y="10800"/>
                </a:lnTo>
                <a:close/>
              </a:path>
              <a:path fill="none" w="21600" h="21600">
                <a:moveTo>
                  <a:pt x="4002" y="19192"/>
                </a:moveTo>
                <a:arcTo wR="10800" hR="10800" stAng="7740471" swAng="13859529"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882720" y="1526400"/>
            <a:ext cx="4676040" cy="467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02" y="19192"/>
                </a:moveTo>
                <a:arcTo wR="10800" hR="10800" stAng="7740471" swAng="7002576"/>
                <a:lnTo>
                  <a:pt x="10800" y="10800"/>
                </a:lnTo>
                <a:close/>
              </a:path>
              <a:path fill="none" w="21600" h="21600">
                <a:moveTo>
                  <a:pt x="4002" y="19192"/>
                </a:moveTo>
                <a:arcTo wR="10800" hR="10800" stAng="7740471" swAng="7002576"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661560" y="26193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üss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315440" y="351936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förm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749400" y="47800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2050920" y="2077920"/>
            <a:ext cx="900360" cy="5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19857600">
            <a:off x="1688400" y="207756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ndensation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2344680" y="2527200"/>
            <a:ext cx="900000" cy="54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rot="19857600">
            <a:off x="1982520" y="252864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dampfung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4300560" y="3519000"/>
            <a:ext cx="0" cy="8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rot="5400000">
            <a:off x="3719160" y="3804120"/>
            <a:ext cx="9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melz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rot="5400000">
            <a:off x="4285440" y="377568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starrung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4751280" y="3519000"/>
            <a:ext cx="0" cy="80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rot="2334000">
            <a:off x="1896480" y="453672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limation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960560" y="4599000"/>
            <a:ext cx="720720" cy="63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870200" y="4689360"/>
            <a:ext cx="720720" cy="63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rot="5400000">
            <a:off x="4155120" y="44737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är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19926000">
            <a:off x="3040920" y="18637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är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rot="2690400">
            <a:off x="1724760" y="50490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är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918040" y="1216080"/>
            <a:ext cx="2672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bergä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st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üss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üssig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förm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st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förm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ötigen Energie z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berwindung 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ungs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s beim Erwär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 zusätzl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ärmeme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geführ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d beim Abkühl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sätzlich fr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477720" y="446040"/>
            <a:ext cx="30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2 Schmelzwä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94880" y="1181160"/>
            <a:ext cx="758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uch: führe einem Eiswürfel eine konstante Wärmemenge pro Zeit z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e Temperatur. Ergebnis (qualitati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2411280" y="2077560"/>
            <a:ext cx="0" cy="20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411280" y="4149720"/>
            <a:ext cx="450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960560" y="1990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011280" y="42400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it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320920" y="306864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788840" y="289080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2681280" y="3068280"/>
            <a:ext cx="990720" cy="10810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672000" y="3068640"/>
            <a:ext cx="9903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4662360" y="2077920"/>
            <a:ext cx="719280" cy="990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670200" y="3070080"/>
            <a:ext cx="55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ltepunkt” (Eis/Wasser benutzt zugefüh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ärme zur Lösung der Kristallbindu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954360" y="4867200"/>
            <a:ext cx="807660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ne Umwandlungswärme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= m 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 Schmelzwärme             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= m (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+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(wenn c unter und oberhalb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des Schmelzpunktes glei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spezifische Schmelzwärme (z.B. Wasser 333kJ/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476640" y="446040"/>
            <a:ext cx="25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3 Dampfdr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92000" y="1359000"/>
            <a:ext cx="2340000" cy="27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üss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92000" y="1359000"/>
            <a:ext cx="234000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92000" y="1359000"/>
            <a:ext cx="2340000" cy="279072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677400" y="762120"/>
            <a:ext cx="521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üssigkeit verdampft auch unterhalb d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depunk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schnellsten Moleküle verlassen die Flüss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 verdampfen (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dunstungskäl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Über der Flüssigkeit baut sich ein Druck au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nn der Druck genügend groß 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eichgewicht zwischen Dampf und Flüss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eichgewichtsdruck: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ampfdru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eigt ~exponentiell mit der Temperatur 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66800" y="4600440"/>
            <a:ext cx="738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depunkt: Flüssigkeit siedet, wenn der Dampfdruck gleich 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äußeren Luftdruck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ser kocht in der Höhe bei niedrigeren Temperatur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476640" y="446040"/>
            <a:ext cx="25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3 Dampfdr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1150920" y="1628640"/>
            <a:ext cx="6840720" cy="445464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4392720" y="117144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pfdruckkur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478440" y="446040"/>
            <a:ext cx="36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4 Phasenübergäng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rcRect l="0" t="0" r="0" b="50560"/>
          <a:stretch/>
        </p:blipFill>
        <p:spPr>
          <a:xfrm>
            <a:off x="341280" y="998640"/>
            <a:ext cx="4230720" cy="314460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2"/>
          <a:srcRect l="0" t="49615" r="0" b="0"/>
          <a:stretch/>
        </p:blipFill>
        <p:spPr>
          <a:xfrm>
            <a:off x="4392720" y="907920"/>
            <a:ext cx="4230720" cy="320544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3"/>
          <a:stretch/>
        </p:blipFill>
        <p:spPr>
          <a:xfrm>
            <a:off x="2951280" y="4371840"/>
            <a:ext cx="3058920" cy="248616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 flipH="1">
            <a:off x="5292360" y="4780080"/>
            <a:ext cx="80964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192360" y="46004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üss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5651280" y="5950080"/>
            <a:ext cx="80964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552360" y="577044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9440" y="189000"/>
            <a:ext cx="6119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3. Wärme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 eine Materialeigenschaft, di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Wärmeleitfähig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inheit von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320920" y="1434960"/>
          <a:ext cx="144000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0920" y="1434960"/>
                    <a:ext cx="14400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523800" y="2620800"/>
            <a:ext cx="369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spiele für Wärmeleitfähigkei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11280" y="3203640"/>
          <a:ext cx="4487760" cy="3286080"/>
        </p:xfrm>
        <a:graphic>
          <a:graphicData uri="http://schemas.openxmlformats.org/drawingml/2006/table">
            <a:tbl>
              <a:tblPr/>
              <a:tblGrid>
                <a:gridCol w="3047760"/>
                <a:gridCol w="1440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to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[W/Km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min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p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aswo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8520" y="189000"/>
            <a:ext cx="785412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3. Wärme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chenbeispi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llerdecke habe konstant T=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, im darüberliegenden Wohnzimmer heiz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Heizung auf T=2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he Wärmemenge wird in den Keller transportiert (pro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 se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wenn der Boden mit 1cm Marmor belegt i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enn der Boden mit 2mm Kork belegt i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ös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063880" y="3754440"/>
          <a:ext cx="6288120" cy="20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3880" y="3754440"/>
                    <a:ext cx="628812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15240" y="5951520"/>
            <a:ext cx="75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ße Wärmeleitfähigkeit von Metallen ist Grund dafür, dass sich Met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 Raumtemperatur oft “kalt” anfüh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71240" y="189000"/>
            <a:ext cx="530928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3. Wärme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tere Mechanismen für Wärme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Konvektion (Stofftrans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ärmestrahlung (alle Körper, Leistung ~ 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76280" y="189000"/>
            <a:ext cx="40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4. Diffusion und Osm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5240" y="804960"/>
            <a:ext cx="76010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us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derung von Molekülen aus Gebiet mit hoher Konz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Gebiet mit geringer Konz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sache: thermische Bewegung der Molekü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ür die Teilchenstromdichte j gilt das Diffusionsgese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: Diffusionskoeffizient (Materialeigenschaft, temperaturabhängi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/dx: Konzentrationsgradient (Änderung der Konzentration pro Streck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rmal ähnlich zur Wärmeleitung, hier wird aber Stoff transportiert, ke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är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 verändert der Diffusionsstrom die Konzentration selb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h langer Zeit völlige Durchmis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389400" y="3249720"/>
          <a:ext cx="1352520" cy="80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9400" y="3249720"/>
                    <a:ext cx="135252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92360" y="2889360"/>
            <a:ext cx="575928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3071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92360" y="1268280"/>
            <a:ext cx="287964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1268280"/>
            <a:ext cx="287964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7164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0920" y="153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30560" y="1717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09840" y="189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32000" y="144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162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89120" y="180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89120" y="153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198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89120" y="216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11280" y="20764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41640" y="20764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71640" y="189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89120" y="216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20764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89120" y="23479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20920" y="22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81280" y="153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81280" y="171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60560" y="171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4164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71640" y="20764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6056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216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71640" y="225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243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41640" y="234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81280" y="22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60560" y="234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71640" y="243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162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60560" y="144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62360" y="180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89120" y="20764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32000" y="144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11640" y="162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90920" y="180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70200" y="19875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92360" y="15397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72000" y="171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4984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49840" y="162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360" y="25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234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72000" y="2166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02000" y="2166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32360" y="198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51280" y="198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32360" y="2166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49840" y="2438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234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1640" y="162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1640" y="180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20920" y="180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02000" y="198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2166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0920" y="198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11640" y="22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32360" y="234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7200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02000" y="2438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1640" y="234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20920" y="244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3236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32360" y="171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21280" y="1539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2272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49840" y="2166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02000" y="216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02000" y="198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02000" y="180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41640" y="135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1164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72000" y="144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2128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02000" y="162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90920" y="144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2440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02000" y="25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90920" y="23479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164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236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0920" y="25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8128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32000" y="25797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164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20920" y="144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9236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51280" y="216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1960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98880" y="153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78520" y="17175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189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79960" y="144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59240" y="162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37080" y="180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37080" y="153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38880" y="198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59240" y="20764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89600" y="20764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19600" y="189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32480" y="19018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19600" y="20764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37080" y="23479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68880" y="22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29240" y="153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29240" y="171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08520" y="171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8960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9600" y="20764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0852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98880" y="216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19600" y="225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59240" y="24382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89600" y="234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29240" y="22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08520" y="234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619600" y="24382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19600" y="162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08520" y="144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0320" y="180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81640" y="216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79960" y="144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9600" y="162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38880" y="180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18160" y="19875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40320" y="153972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19960" y="171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9780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97800" y="162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40320" y="25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59600" y="234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19960" y="21668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49960" y="21668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80320" y="198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99240" y="198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80320" y="21668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97800" y="24382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29240" y="23493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89600" y="162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89600" y="180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68880" y="180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49960" y="198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79960" y="21668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68880" y="19890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59600" y="22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80320" y="234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1996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49960" y="24382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89600" y="234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68880" y="24400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8032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80320" y="171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969240" y="153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7068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97800" y="21668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149960" y="216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49960" y="19890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149960" y="180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789600" y="135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5960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19960" y="144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6924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49960" y="162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238880" y="144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27236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149960" y="25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238880" y="23479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8960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4032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98880" y="25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2924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79960" y="25797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88960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68880" y="144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4032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99240" y="216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87164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50920" y="315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30560" y="333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09840" y="351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32000" y="30700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11280" y="32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89120" y="34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89120" y="315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9092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89120" y="378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11280" y="36972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41640" y="36972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71640" y="351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89120" y="378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71640" y="36972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89120" y="396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20920" y="3879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81280" y="315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81280" y="334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60560" y="334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41640" y="351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871640" y="36972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60560" y="351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050920" y="378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771640" y="38797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11280" y="405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41640" y="396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81280" y="3879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960560" y="39704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71640" y="405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1640" y="32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60560" y="30700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6236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89120" y="36972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32000" y="30700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11640" y="32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49092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70200" y="360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492360" y="31608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932360" y="32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49840" y="351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49840" y="32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2360" y="41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751280" y="378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672000" y="378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402000" y="378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03236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5128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032360" y="378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49840" y="40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581280" y="39704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1640" y="32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41640" y="34304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20920" y="34304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40200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32000" y="37879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20920" y="361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311640" y="3879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032360" y="39704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672000" y="41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402000" y="40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1640" y="39704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220920" y="40608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51280" y="41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032360" y="334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121280" y="31608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022720" y="351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49840" y="378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0" y="36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93236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02000" y="34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41640" y="297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1164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672000" y="30700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12128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302000" y="32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390920" y="30700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424400" y="351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302000" y="41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390920" y="396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041640" y="41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92360" y="41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050920" y="41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81280" y="41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32000" y="42004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4164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320920" y="30700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9236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51280" y="378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71960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11640" y="306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8520" y="333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257800" y="351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079960" y="30700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59240" y="32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37080" y="34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7080" y="31590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38880" y="361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259240" y="36972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989600" y="36972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619600" y="35193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32480" y="35226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619600" y="36972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51280" y="396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168880" y="387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29240" y="315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29240" y="334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08520" y="334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941640" y="34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302000" y="36972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92720" y="333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121280" y="378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19600" y="387972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259240" y="405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989600" y="396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29240" y="387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08520" y="39704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19600" y="405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62360" y="315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708520" y="30700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710320" y="34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381640" y="378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979960" y="30700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59600" y="32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338880" y="34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18160" y="36082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40320" y="31608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19960" y="334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697800" y="351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697800" y="32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340320" y="41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059600" y="396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519960" y="37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249960" y="37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880320" y="361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799240" y="361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880320" y="37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697800" y="40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429240" y="39704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889600" y="32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889600" y="34304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68880" y="34304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249960" y="361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79960" y="37879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068880" y="36100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159600" y="387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80320" y="39704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51996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249960" y="40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89600" y="39704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68880" y="40608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8032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80320" y="334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969240" y="31608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70680" y="351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97800" y="37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149960" y="378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149960" y="36100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49960" y="34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789600" y="297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5960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519960" y="30700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96924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149960" y="32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38880" y="30700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272360" y="351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49960" y="41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238880" y="396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88960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44032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898880" y="41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62924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79960" y="42004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8960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68880" y="30700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44032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99240" y="378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692360" y="4508640"/>
            <a:ext cx="575928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87164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050920" y="477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30560" y="495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09840" y="513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32000" y="468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11280" y="486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89120" y="504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89120" y="477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89120" y="540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11280" y="5316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41640" y="5316480"/>
            <a:ext cx="90360" cy="90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771640" y="513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89120" y="540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771640" y="5316480"/>
            <a:ext cx="90720" cy="90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89120" y="55879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320920" y="549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781280" y="4778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781280" y="49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960560" y="49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14164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871640" y="53164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96056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050920" y="540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771640" y="549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411280" y="567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141640" y="55879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781280" y="549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960560" y="558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771640" y="567864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771640" y="486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860560" y="468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62360" y="50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589120" y="5316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132000" y="468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31164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490920" y="5048280"/>
            <a:ext cx="9036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670200" y="5227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492360" y="478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93236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84984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84984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492360" y="576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751280" y="540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67200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40200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03236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5128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03236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849840" y="567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81280" y="558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04164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041640" y="5049720"/>
            <a:ext cx="90360" cy="90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220920" y="50497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40200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132000" y="54072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220920" y="522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311640" y="5499000"/>
            <a:ext cx="90360" cy="90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032360" y="558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67200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02000" y="567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041640" y="558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220920" y="568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751280" y="576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032360" y="49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121280" y="478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022720" y="513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84984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0" y="531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93236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302000" y="504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41640" y="459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311640" y="4599000"/>
            <a:ext cx="9036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672000" y="468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12128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302000" y="486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390920" y="468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42440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302000" y="576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390920" y="55879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04164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59236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050920" y="576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8128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32000" y="58197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04164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320920" y="468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59236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951280" y="540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719600" y="459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211640" y="46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078520" y="495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257800" y="513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079960" y="468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259240" y="486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437080" y="504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437080" y="477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438880" y="522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259240" y="53164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989600" y="53164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619600" y="513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632480" y="51418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619600" y="53164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51280" y="55879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168880" y="549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629240" y="47782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629240" y="49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808520" y="49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941640" y="504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302000" y="53164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392720" y="495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121280" y="540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619600" y="54990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259240" y="567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989600" y="55879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629240" y="549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808520" y="558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19600" y="567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762360" y="47782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08520" y="468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710320" y="504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381640" y="540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979960" y="46893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159600" y="48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338880" y="504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518160" y="52275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340320" y="478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519960" y="49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697800" y="513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697800" y="48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40320" y="576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059600" y="55879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51996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249960" y="540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880320" y="522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79924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880320" y="540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697800" y="567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429240" y="558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88960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89600" y="504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068880" y="504972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9960" y="522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979960" y="54072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068880" y="522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159600" y="549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880320" y="558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519960" y="57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49960" y="567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889600" y="558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68880" y="56800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880320" y="57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880320" y="49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969240" y="478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97068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697800" y="540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149960" y="540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149960" y="522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149960" y="504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789600" y="459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15960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519960" y="468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969240" y="459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149960" y="486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238880" y="46893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272360" y="513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149960" y="576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238880" y="558792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889600" y="57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44032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898880" y="576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629240" y="57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079960" y="58197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889600" y="459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168880" y="468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440320" y="459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99240" y="540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241280" y="1268280"/>
            <a:ext cx="0" cy="468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rot="10800000">
            <a:off x="874800" y="5268600"/>
            <a:ext cx="4546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76280" y="189000"/>
            <a:ext cx="40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4. Diffusion und Osm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476280" y="189000"/>
            <a:ext cx="40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4. Diffusion und Osm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21000" y="1000080"/>
            <a:ext cx="808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mo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zialfall der Diffusion bei halbdurchlässigen (semi-permeablen) Membr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701640" y="2619360"/>
            <a:ext cx="4444920" cy="334008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702720" y="2341440"/>
            <a:ext cx="33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löster Stoff in Lösungsmitt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>
            <a:off x="5486400" y="2798640"/>
            <a:ext cx="2955960" cy="300204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5383080" y="23511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kroskopis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03000" y="6130800"/>
            <a:ext cx="69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motischer Druck:                                           van’t Hoff Glei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3125880" y="5859360"/>
          <a:ext cx="1716120" cy="8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5880" y="5859360"/>
                    <a:ext cx="171612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476640" y="189000"/>
            <a:ext cx="45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 Hauptsätze der Wärmeleh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1 Zustandsdia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32360" y="2021040"/>
            <a:ext cx="8434800" cy="34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modynamischer “Zustand” eines Stoffes ist charakterisiert durch 3 Größ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ck p  Volumen V   Temperatur 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bt man 2 Größen vor, ist die dritte bestimmt. Z.B. im idealen Gasgeset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V = n R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nn man das “Eigenvolumen” b der Moleküle und (pauschal) die Molekülkräf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erücksichtigt, erhält man die van-der-Waals-Gleich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 + a/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V – b) = R T               (hier ist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V/n)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478080" y="189000"/>
            <a:ext cx="37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1 Zustandsdia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63800" y="-261360"/>
            <a:ext cx="5717520" cy="4236480"/>
            <a:chOff x="163800" y="-261360"/>
            <a:chExt cx="5717520" cy="4236480"/>
          </a:xfrm>
        </p:grpSpPr>
        <p:sp>
          <p:nvSpPr>
            <p:cNvPr id="626" name=""/>
            <p:cNvSpPr/>
            <p:nvPr/>
          </p:nvSpPr>
          <p:spPr>
            <a:xfrm flipV="1">
              <a:off x="614520" y="906480"/>
              <a:ext cx="0" cy="261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14520" y="3517920"/>
              <a:ext cx="260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63800" y="728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952720" y="360828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954520" y="3519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11052600">
              <a:off x="748440" y="450000"/>
              <a:ext cx="5037480" cy="27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164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16430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1052600">
              <a:off x="752040" y="-79920"/>
              <a:ext cx="5036760" cy="27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164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16430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139200" y="288936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139200" y="234936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5294520" y="819000"/>
            <a:ext cx="3111120" cy="3246480"/>
            <a:chOff x="5294520" y="819000"/>
            <a:chExt cx="3111120" cy="3246480"/>
          </a:xfrm>
        </p:grpSpPr>
        <p:sp>
          <p:nvSpPr>
            <p:cNvPr id="636" name=""/>
            <p:cNvSpPr/>
            <p:nvPr/>
          </p:nvSpPr>
          <p:spPr>
            <a:xfrm flipV="1">
              <a:off x="5744880" y="996840"/>
              <a:ext cx="0" cy="261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744880" y="3608280"/>
              <a:ext cx="261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94520" y="819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083440" y="369864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084880" y="36097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5832360" y="1185840"/>
              <a:ext cx="1620720" cy="23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5832000" y="1544400"/>
              <a:ext cx="225108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638480" y="190656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648120" y="118728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2773440" y="3782880"/>
            <a:ext cx="3111120" cy="3246480"/>
            <a:chOff x="2773440" y="3782880"/>
            <a:chExt cx="3111120" cy="3246480"/>
          </a:xfrm>
        </p:grpSpPr>
        <p:sp>
          <p:nvSpPr>
            <p:cNvPr id="646" name=""/>
            <p:cNvSpPr/>
            <p:nvPr/>
          </p:nvSpPr>
          <p:spPr>
            <a:xfrm flipV="1">
              <a:off x="3223800" y="3960720"/>
              <a:ext cx="0" cy="261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223800" y="6572160"/>
              <a:ext cx="261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773440" y="3782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62360" y="666252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563800" y="6573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3311280" y="4149720"/>
              <a:ext cx="1620720" cy="23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3310920" y="4508280"/>
              <a:ext cx="225108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117040" y="487044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126680" y="415116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1332000" y="90972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V-Diagra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825600" y="63828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-T-Diagra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195600" y="44197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T-Diagra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0T15:06:19Z</dcterms:created>
  <dc:creator>Klaus Desch</dc:creator>
  <dc:description/>
  <dc:language>en-US</dc:language>
  <cp:lastModifiedBy>Klaus Desch</cp:lastModifiedBy>
  <dcterms:modified xsi:type="dcterms:W3CDTF">2006-06-14T10:03:27Z</dcterms:modified>
  <cp:revision>39</cp:revision>
  <dc:subject/>
  <dc:title>Folie 1</dc:title>
</cp:coreProperties>
</file>