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36E-26C4-4794-9B50-A37F5E66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1B9-3621-48DB-B062-EB5B2FB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BFB-0604-4F75-8931-7679CE0D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76D-585F-419F-8768-CD4BB195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4AC-6E50-44F3-8785-4326589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98C-FC0B-4004-A5D6-B2FFF0E0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E46-6D9E-4685-9918-250D40DC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A19-CDC0-44F9-9390-40E8BB4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ADA-3A0F-43C7-8169-30CED4F1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E17-C09A-48A8-A1E1-A4EAC3E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DD9-8028-406A-BDE7-9E2E40CD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04F-5793-4ACD-A5BF-5CE63A62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4F3F-7355-4612-9C1A-AE41DE8F0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38600"/>
            <a:ext cx="558180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0920" y="4638600"/>
            <a:ext cx="90144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89000"/>
            <a:ext cx="65923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n zweier Körper im Kontakt gleichen si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tragung von Wärme (Energ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          = Wärmemenge die pro Zei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durch eine Fläche transportier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dichte = Wärmestrom pr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(Querschnitts)-Fläche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56440" y="2333520"/>
          <a:ext cx="1222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2333520"/>
                    <a:ext cx="1222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219800" y="3205080"/>
          <a:ext cx="109224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3205080"/>
                    <a:ext cx="10922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00200" y="4861080"/>
            <a:ext cx="53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829000">
            <a:off x="434520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5583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0920" y="56275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560" y="49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3440" y="4997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0560" y="44578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418932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105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leitungsgleich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93960" y="5884920"/>
          <a:ext cx="15084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3960" y="5884920"/>
                    <a:ext cx="1508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5920" y="18900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2 Innere Energie, erster Hauptsatz d.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9120" y="10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8120" y="1181160"/>
            <a:ext cx="786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n Vol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komplett in (ungeordneter) Bewegungsenergie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küle gespeichert. Man diese Bewegungsenergie auch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innere Energie </a:t>
            </a:r>
            <a:r>
              <a:rPr b="0" lang="en-US" sz="1800" spc="-1" strike="noStrike">
                <a:solidFill>
                  <a:srgbClr val="1c0ed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m Dru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nur teilweise in innerer Energie gespeich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ndere Teil verrichtet mechanische Arbeit (Volumenarbeit) W =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allgemein gilt:     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       (erster Hauptsatz der Wärmele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agt, dass zugefühhrte Wärme in innere Energie und mechanisch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gewandelt wird, dass also die Gesamtenergie erhalt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77360" y="18900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3 Zweiter Hauptsatz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600" y="1751040"/>
            <a:ext cx="73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rste Hauptsatz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 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ässt offen, wieviel der Wä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nere Energie geht, wieviel in mechanische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zweite Hauptsatz besa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Die einem System zugeführte Wärme kann &gt;prinzipiell&lt; nicht zu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in mechanische Arbeit umgewande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st z.B. nicht möglich ein Schiff zu betreiben indem man dem O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entzieht und damit den Schiffsmotor bet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79160" y="44604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 Aggregatzustände,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1 Umwandlungswä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1538280"/>
            <a:ext cx="4678200" cy="46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26"/>
                </a:moveTo>
                <a:arcTo wR="10800" hR="10800" stAng="8299" swAng="21591701"/>
                <a:lnTo>
                  <a:pt x="10800" y="10800"/>
                </a:lnTo>
                <a:close/>
              </a:path>
              <a:path fill="none" w="21600" h="21600">
                <a:moveTo>
                  <a:pt x="21600" y="10826"/>
                </a:moveTo>
                <a:arcTo wR="10800" hR="10800" stAng="8299" swAng="21591701"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84160" y="1541520"/>
            <a:ext cx="4678200" cy="46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13859529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13859529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2720" y="1526400"/>
            <a:ext cx="4676040" cy="46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7002576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7002576"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61560" y="261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15440" y="3519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49400" y="478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50920" y="2077920"/>
            <a:ext cx="9003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9857600">
            <a:off x="1688400" y="207756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dens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44680" y="2527200"/>
            <a:ext cx="9000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9857600">
            <a:off x="1982520" y="25286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dampf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30056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719160" y="3804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mel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4285440" y="3775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ar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5128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334000">
            <a:off x="1896480" y="4536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lim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60560" y="459900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70200" y="468936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4155120" y="447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9926000">
            <a:off x="3040920" y="186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690400">
            <a:off x="1724760" y="504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18040" y="1216080"/>
            <a:ext cx="267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ötigen Energie z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indung 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ungs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beim Erwä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me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efüh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beim Abkühl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ätzlich f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77720" y="4460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2 Schmelz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4880" y="11811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ch: führe einem Eiswürfel eine konstante Wärmemenge pro Zeit 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e Temperatur. Ergebnis (qualita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11280" y="2077560"/>
            <a:ext cx="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14972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60560" y="199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1280" y="424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20920" y="30686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88840" y="28908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681280" y="3068280"/>
            <a:ext cx="990720" cy="1081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2000" y="3068640"/>
            <a:ext cx="99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662360" y="2077920"/>
            <a:ext cx="71928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0200" y="3070080"/>
            <a:ext cx="55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epunkt” (Eis/Wasser benutzt zugefüh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zur Lösung der Kristallbind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54360" y="4867200"/>
            <a:ext cx="80766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Umwandlungswärm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chmelzwärme            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+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wenn c unter und oberhal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des Schmelzpunktes 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pezifische Schmelzwärme (z.B. Wasser 333kJ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2000" y="1359000"/>
            <a:ext cx="23400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77400" y="762120"/>
            <a:ext cx="52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 verdampft auch unterhalb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nellsten Moleküle verlassen die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dampfen 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unstungskä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 der Flüssigkeit baut sich ein Druck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der Druck genügend groß 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 zwischen Dampf und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sdruc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pf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eigt ~exponentiell mit der Temperatur 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6800" y="4600440"/>
            <a:ext cx="73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: Flüssigkeit siedet, wenn der Dampfdruck gleich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ußeren Luftdruck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ser kocht in der Höhe bei niedrigeren Temperatu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6840720" cy="44546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392720" y="11714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druck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78440" y="44604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4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rcRect l="0" t="0" r="0" b="50560"/>
          <a:stretch/>
        </p:blipFill>
        <p:spPr>
          <a:xfrm>
            <a:off x="341280" y="998640"/>
            <a:ext cx="4230720" cy="3144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rcRect l="0" t="49615" r="0" b="0"/>
          <a:stretch/>
        </p:blipFill>
        <p:spPr>
          <a:xfrm>
            <a:off x="4392720" y="907920"/>
            <a:ext cx="4230720" cy="3205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951280" y="4371840"/>
            <a:ext cx="3058920" cy="24861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 flipH="1">
            <a:off x="5292360" y="478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92360" y="4600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5651280" y="595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2360" y="577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9440" y="189000"/>
            <a:ext cx="611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Materialeigenschaft, di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ärmeleit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inheit von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20920" y="1434960"/>
          <a:ext cx="1440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34960"/>
                    <a:ext cx="1440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23800" y="262080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 für Wärmeleitfähig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203640"/>
          <a:ext cx="4487760" cy="3286080"/>
        </p:xfrm>
        <a:graphic>
          <a:graphicData uri="http://schemas.openxmlformats.org/drawingml/2006/table">
            <a:tbl>
              <a:tblPr/>
              <a:tblGrid>
                <a:gridCol w="3047760"/>
                <a:gridCol w="144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W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p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w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8520" y="189000"/>
            <a:ext cx="78541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chen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erdecke habe konstant T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im darüberliegenden Wohnzimmer hei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zung auf T=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he Wärmemenge wird in den Keller transportiert (pro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 se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enn der Boden mit 1cm Marmor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enn der Boden mit 2mm Kork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3754440"/>
          <a:ext cx="62881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754440"/>
                    <a:ext cx="62881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5240" y="5951520"/>
            <a:ext cx="75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Wärmeleitfähigkeit von Metallen ist Grund dafür, dass sich M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Raumtemperatur oft “kalt” an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240" y="189000"/>
            <a:ext cx="5309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Mechanismen für Wärm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vektion (Stoff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ärmestrahlung (alle Körper, Leistung ~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240" y="804960"/>
            <a:ext cx="76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erung von Molekülen aus Gebiet mit hoh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biet mit gering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: thermische Bewegung der Molekü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Teilchenstromdichte j gilt das Diffusions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ffusionskoeffizient (Materialeigenschaft, temperaturabhäng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x: Konzentrationsgradient (Änderung der Konzentration pro Strec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mal ähnlich zur Wärmeleitung, hier wird aber Stoff transportiert, k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 verändert der Diffusionsstrom die Konzentration selb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langer Zeit völlige Durchmi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89400" y="3249720"/>
          <a:ext cx="13525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3249720"/>
                    <a:ext cx="13525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288936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1717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9840" y="189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8912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91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89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092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153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128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605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16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2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05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056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0200" y="1987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53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98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98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236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236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4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1640" y="180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0920" y="180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200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2166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092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164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23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0200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0920" y="244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3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153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272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1640" y="13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9092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440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200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09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164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8128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257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092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21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988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8520" y="17175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89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924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888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924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189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32480" y="190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960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0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29240" y="153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924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85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896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852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9888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22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8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2924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85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852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032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16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7996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3888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8160" y="19875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0320" y="153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78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032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5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8032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924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8032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9780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29240" y="234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0" y="180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80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960" y="21668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888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803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996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996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960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8880" y="244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803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153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9780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996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9600" y="13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6924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996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36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960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9888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924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960" y="257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032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92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33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351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8912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891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092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81280" y="315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128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605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416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09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87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4164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128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056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912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70200" y="360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1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3236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98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8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5128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7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0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236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9704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1640" y="34304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20920" y="34304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0920" y="361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164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164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20920" y="40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5128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23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1280" y="31608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6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1640" y="297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2128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0200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9092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440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09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164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8128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2000" y="4200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236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51280" y="378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30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7800" y="351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924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708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15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924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89600" y="36972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9600" y="351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32480" y="35226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196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2924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85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164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20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927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128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19600" y="387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924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924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85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960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236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852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032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816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3888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8160" y="360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1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1996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780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5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4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8032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924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032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780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240" y="39704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89600" y="34304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68880" y="34304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996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9960" y="378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888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03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996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996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960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68880" y="40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8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69240" y="31608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7068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9780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9960" y="378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996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4996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9600" y="297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6924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4996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7236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4996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396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8960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4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888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924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9960" y="4200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8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888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4032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92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450864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7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0560" y="495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09840" y="513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91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41640" y="531648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1640" y="5316480"/>
            <a:ext cx="9072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891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2092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81280" y="477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8128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605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416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71640" y="5316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6056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549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567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4164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8128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605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71640" y="567864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62360" y="50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912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90920" y="504828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70200" y="5227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3236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98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498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5128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7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0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1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323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4984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58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1640" y="504972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2092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0200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5407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092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11640" y="549900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23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7200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0200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164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0920" y="56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5128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23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21280" y="478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272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4984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31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0200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41640" y="459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1640" y="459900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7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2128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8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09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440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0200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09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164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9236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509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8128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581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2092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9236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5128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46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85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513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924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888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89600" y="53164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19600" y="513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32480" y="514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96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888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924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2924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085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4164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927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2128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19600" y="549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924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8960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85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1960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236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085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032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8164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7996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96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3888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18160" y="52275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1996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780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403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5960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199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996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8032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92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8032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9780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9240" y="558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8960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600" y="504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68880" y="504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996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79960" y="54072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6888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5960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803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1996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996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960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68880" y="568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8032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03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69240" y="478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068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780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540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9960" y="522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4996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9600" y="459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5960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924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4996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36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996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55879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8960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9888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2924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9960" y="581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8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6888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924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41280" y="1268280"/>
            <a:ext cx="0" cy="468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874800" y="5268600"/>
            <a:ext cx="45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1000" y="1000080"/>
            <a:ext cx="80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zialfall der Diffusion bei halbdurchlässigen (semi-permeablen) Membr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640" y="261936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02720" y="234144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ster Stoff in Lösungsmit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6400" y="2798640"/>
            <a:ext cx="2955960" cy="3002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83080" y="235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sko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000" y="613080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tischer Druck:                                           van’t Hoff Gl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25880" y="5859360"/>
          <a:ext cx="17161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5859360"/>
                    <a:ext cx="17161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76640" y="189000"/>
            <a:ext cx="45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 Hauptsätze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2360" y="2021040"/>
            <a:ext cx="84348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scher “Zustand” eines Stoffes ist charakterisiert durch 3 Größ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 p  Volumen V   Temperatur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t man 2 Größen vor, ist die dritte bestimmt. Z.B. im idealen Gasgese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 = n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man das “Eigenvolumen” b der Moleküle und (pauschal) die Molekül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rücksichtigt, erhält man die van-der-Waals-Glei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 + a/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V – b) = R T               (hier i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/n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8080" y="18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3800" y="-261360"/>
            <a:ext cx="5717520" cy="4236480"/>
            <a:chOff x="163800" y="-261360"/>
            <a:chExt cx="5717520" cy="4236480"/>
          </a:xfrm>
        </p:grpSpPr>
        <p:sp>
          <p:nvSpPr>
            <p:cNvPr id="626" name=""/>
            <p:cNvSpPr/>
            <p:nvPr/>
          </p:nvSpPr>
          <p:spPr>
            <a:xfrm flipV="1">
              <a:off x="614520" y="90648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520" y="3517920"/>
              <a:ext cx="26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3800" y="7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52720" y="3608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4520" y="351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052600">
              <a:off x="748440" y="450000"/>
              <a:ext cx="503748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1052600">
              <a:off x="752040" y="-79920"/>
              <a:ext cx="503676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9200" y="28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9200" y="234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94520" y="819000"/>
            <a:ext cx="3111120" cy="3246480"/>
            <a:chOff x="5294520" y="819000"/>
            <a:chExt cx="3111120" cy="3246480"/>
          </a:xfrm>
        </p:grpSpPr>
        <p:sp>
          <p:nvSpPr>
            <p:cNvPr id="636" name=""/>
            <p:cNvSpPr/>
            <p:nvPr/>
          </p:nvSpPr>
          <p:spPr>
            <a:xfrm flipV="1">
              <a:off x="5744880" y="9968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4880" y="360828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4520" y="81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83440" y="3698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84880" y="36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832360" y="118584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32000" y="154440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8480" y="1906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48120" y="118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773440" y="3782880"/>
            <a:ext cx="3111120" cy="3246480"/>
            <a:chOff x="2773440" y="3782880"/>
            <a:chExt cx="3111120" cy="3246480"/>
          </a:xfrm>
        </p:grpSpPr>
        <p:sp>
          <p:nvSpPr>
            <p:cNvPr id="646" name=""/>
            <p:cNvSpPr/>
            <p:nvPr/>
          </p:nvSpPr>
          <p:spPr>
            <a:xfrm flipV="1">
              <a:off x="3223800" y="396072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23800" y="657216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34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360" y="666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3800" y="657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311280" y="414972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10920" y="450828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17040" y="487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26680" y="4151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332000" y="909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V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25600" y="6382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95600" y="441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5:06:19Z</dcterms:created>
  <dc:creator>Klaus Desch</dc:creator>
  <dc:description/>
  <dc:language>en-US</dc:language>
  <cp:lastModifiedBy>Klaus Desch</cp:lastModifiedBy>
  <dcterms:modified xsi:type="dcterms:W3CDTF">2006-06-14T10:03:27Z</dcterms:modified>
  <cp:revision>39</cp:revision>
  <dc:subject/>
  <dc:title>Folie 1</dc:title>
</cp:coreProperties>
</file>