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D86F-C7FE-4118-8CFA-6C0247350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F0967-AFF1-4CA9-85CD-DD44732BC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1E1F-2360-4230-B9E5-CED3882B6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2B7E-256E-489F-93AA-1FF250C46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2BA5-AC34-4632-A7B4-3962D1B19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758D-F4CD-4F5C-A4BF-880E70EDB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0408-EE70-469D-B04E-5FA093A16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77AC-122E-426F-A9A2-E2F7A6D1A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6C53-FB52-4FB5-ABFD-0B27AD95A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F955-08AA-47DC-819A-34E4D9D80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778E-6FE6-4E59-8E52-12730916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57F6-1327-4674-B460-39F87778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C7995-C0CF-4116-A022-F9E9D2693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00200" y="4638600"/>
            <a:ext cx="5581800" cy="9003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760920" y="4638600"/>
            <a:ext cx="901440" cy="9003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30718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6560" y="189000"/>
            <a:ext cx="6592320" cy="44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2.3. Wärmelei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eraturen zweier Körper im Kontakt gleichen sich 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Übertragung von Wärme (Energi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Wärmestrom          = Wärmemenge die pro Zeit 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                                durch eine Fläche transportiert wi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Wärmestromdichte = Wärmestrom pro 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                                (Querschnitts)-Fläche </a:t>
            </a:r>
            <a:br>
              <a:rPr sz="2000"/>
            </a:b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7156440" y="2333520"/>
          <a:ext cx="1222560" cy="80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56440" y="2333520"/>
                    <a:ext cx="1222560" cy="80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7219800" y="3205080"/>
          <a:ext cx="1092240" cy="858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19800" y="3205080"/>
                    <a:ext cx="109224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1600200" y="4861080"/>
            <a:ext cx="531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20829000">
            <a:off x="4345200" y="4908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76840" y="558324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760920" y="5627520"/>
            <a:ext cx="630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70560" y="499752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93440" y="49975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i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490560" y="4457880"/>
            <a:ext cx="12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48120" y="4189320"/>
            <a:ext cx="334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7320" y="6105600"/>
            <a:ext cx="311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ärmeleitungsgleichung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693960" y="5884920"/>
          <a:ext cx="1508400" cy="807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93960" y="5884920"/>
                    <a:ext cx="1508400" cy="80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475920" y="189000"/>
            <a:ext cx="743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3.2 Innere Energie, erster Hauptsatz d. Wärmeleh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19120" y="10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708120" y="1181160"/>
            <a:ext cx="7864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wärmung bei konstanten Volume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geführte Wärme wird komplett in (ungeordneter) Bewegungsenergie 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leküle gespeichert. Man diese Bewegungsenergie auch d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0ed8"/>
                </a:solidFill>
                <a:latin typeface="Arial"/>
              </a:rPr>
              <a:t>innere Energie </a:t>
            </a:r>
            <a:r>
              <a:rPr b="0" lang="en-US" sz="1800" spc="-1" strike="noStrike">
                <a:solidFill>
                  <a:srgbClr val="1c0ed8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1c0ed8"/>
                </a:solidFill>
                <a:latin typeface="Arial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wärmung bei konstantem Druc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geführte Wärme wird nur teilweise in innerer Energie gespeicher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 andere Teil verrichtet mechanische Arbeit (Volumenarbeit) W = p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nz allgemein gilt:     </a:t>
            </a:r>
            <a:r>
              <a:rPr b="0" lang="en-US" sz="1800" spc="-1" strike="noStrike">
                <a:solidFill>
                  <a:srgbClr val="ca2114"/>
                </a:solidFill>
                <a:latin typeface="Arial"/>
              </a:rPr>
              <a:t>Q = </a:t>
            </a:r>
            <a:r>
              <a:rPr b="0" lang="en-US" sz="1800" spc="-1" strike="noStrike">
                <a:solidFill>
                  <a:srgbClr val="ca2114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ca2114"/>
                </a:solidFill>
                <a:latin typeface="Arial"/>
              </a:rPr>
              <a:t>U + W        (erster Hauptsatz der Wärmeleh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agt, dass zugefühhrte Wärme in innere Energie und mechanische Arb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gewandelt wird, dass also die Gesamtenergie erhalten 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477360" y="189000"/>
            <a:ext cx="567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3.3 Zweiter Hauptsatz der Wärmeleh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525600" y="1751040"/>
            <a:ext cx="734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 erste Hauptsatz</a:t>
            </a:r>
            <a:r>
              <a:rPr b="0" lang="en-US" sz="1800" spc="-1" strike="noStrike">
                <a:solidFill>
                  <a:srgbClr val="ca2114"/>
                </a:solidFill>
                <a:latin typeface="Arial"/>
              </a:rPr>
              <a:t> Q = </a:t>
            </a:r>
            <a:r>
              <a:rPr b="0" lang="en-US" sz="1800" spc="-1" strike="noStrike">
                <a:solidFill>
                  <a:srgbClr val="ca2114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ca2114"/>
                </a:solidFill>
                <a:latin typeface="Arial"/>
              </a:rPr>
              <a:t>U + W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ässt offen, wieviel der Wär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innere Energie geht, wieviel in mechanische Arbe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 zweite Hauptsatz besag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a2114"/>
                </a:solidFill>
                <a:latin typeface="Arial"/>
              </a:rPr>
              <a:t>Die einem System zugeführte Wärme kann &gt;prinzipiell&lt; nicht zu 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a2114"/>
                </a:solidFill>
                <a:latin typeface="Arial"/>
              </a:rPr>
              <a:t>in mechanische Arbeit umgewandelt we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 ist z.B. nicht möglich ein Schiff zu betreiben indem man dem Oz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ärme entzieht und damit den Schiffsmotor betreib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479160" y="446040"/>
            <a:ext cx="607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4. Aggregatzustände, Phasenübergäng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4.1 Umwandlungswä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880920" y="1538280"/>
            <a:ext cx="4678200" cy="4677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26"/>
                </a:moveTo>
                <a:arcTo wR="10800" hR="10800" stAng="8299" swAng="21591701"/>
                <a:lnTo>
                  <a:pt x="10800" y="10800"/>
                </a:lnTo>
                <a:close/>
              </a:path>
              <a:path fill="none" w="21600" h="21600">
                <a:moveTo>
                  <a:pt x="21600" y="10826"/>
                </a:moveTo>
                <a:arcTo wR="10800" hR="10800" stAng="8299" swAng="21591701"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884160" y="1541520"/>
            <a:ext cx="4678200" cy="4678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002" y="19192"/>
                </a:moveTo>
                <a:arcTo wR="10800" hR="10800" stAng="7740471" swAng="13859529"/>
                <a:lnTo>
                  <a:pt x="10800" y="10800"/>
                </a:lnTo>
                <a:close/>
              </a:path>
              <a:path fill="none" w="21600" h="21600">
                <a:moveTo>
                  <a:pt x="4002" y="19192"/>
                </a:moveTo>
                <a:arcTo wR="10800" hR="10800" stAng="7740471" swAng="13859529"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882720" y="1526400"/>
            <a:ext cx="4676040" cy="467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002" y="19192"/>
                </a:moveTo>
                <a:arcTo wR="10800" hR="10800" stAng="7740471" swAng="7002576"/>
                <a:lnTo>
                  <a:pt x="10800" y="10800"/>
                </a:lnTo>
                <a:close/>
              </a:path>
              <a:path fill="none" w="21600" h="21600">
                <a:moveTo>
                  <a:pt x="4002" y="19192"/>
                </a:moveTo>
                <a:arcTo wR="10800" hR="10800" stAng="7740471" swAng="7002576"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661560" y="261936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üss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315440" y="351936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sförmi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749400" y="478008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 flipV="1">
            <a:off x="2050920" y="2077920"/>
            <a:ext cx="900360" cy="5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rot="19857600">
            <a:off x="1688400" y="207756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ondensations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 flipV="1">
            <a:off x="2344680" y="2527200"/>
            <a:ext cx="900000" cy="54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rot="19857600">
            <a:off x="1982520" y="2528640"/>
            <a:ext cx="140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dampfungs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4300560" y="3519000"/>
            <a:ext cx="0" cy="80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rot="5400000">
            <a:off x="3719160" y="3804120"/>
            <a:ext cx="92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hmelz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rot="5400000">
            <a:off x="4285440" y="377568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starrungs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4751280" y="3519000"/>
            <a:ext cx="0" cy="809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 rot="2334000">
            <a:off x="1896480" y="453672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limations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1960560" y="4599000"/>
            <a:ext cx="720720" cy="63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870200" y="4689360"/>
            <a:ext cx="720720" cy="63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 rot="5400000">
            <a:off x="4155120" y="447372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är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rot="19926000">
            <a:off x="3040920" y="186372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är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 rot="2690400">
            <a:off x="1724760" y="5049000"/>
            <a:ext cx="7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är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5918040" y="1216080"/>
            <a:ext cx="26726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Übergä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st</a:t>
            </a:r>
            <a:r>
              <a:rPr b="0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üss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üssig</a:t>
            </a:r>
            <a:r>
              <a:rPr b="0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sförm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st</a:t>
            </a:r>
            <a:r>
              <a:rPr b="0" lang="en-U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sförm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ötigen Energie z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Überwindung d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ndungsener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s beim Erwär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 zusätzli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ärmemeng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ugeführt werd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d beim Abkühle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usätzlich fr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477720" y="446040"/>
            <a:ext cx="302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4.2 Schmelzwär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794880" y="1181160"/>
            <a:ext cx="758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such: führe einem Eiswürfel eine konstante Wärmemenge pro Zeit z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e Temperatur. Ergebnis (qualitati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 flipV="1">
            <a:off x="2411280" y="2077560"/>
            <a:ext cx="0" cy="20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2411280" y="4149720"/>
            <a:ext cx="450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960560" y="19908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011280" y="424008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eit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320920" y="3068640"/>
            <a:ext cx="1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788840" y="2890800"/>
            <a:ext cx="5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2681280" y="3068280"/>
            <a:ext cx="990720" cy="108108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672000" y="3068640"/>
            <a:ext cx="9903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4662360" y="2077920"/>
            <a:ext cx="719280" cy="9907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670200" y="3070080"/>
            <a:ext cx="55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ltepunkt” (Eis/Wasser benutzt zugeführ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ärme zur Lösung der Kristallbindu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954360" y="4867200"/>
            <a:ext cx="807660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hne Umwandlungswärme: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 = m c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t Schmelzwärme             :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 = m (c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+ 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 (wenn c unter und oberhalb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des Schmelzpunktes gleic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: spezifische Schmelzwärme (z.B. Wasser 333kJ/k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476640" y="446040"/>
            <a:ext cx="258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4.3 Dampfdru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792000" y="1359000"/>
            <a:ext cx="2340000" cy="27907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üssigk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792000" y="1359000"/>
            <a:ext cx="234000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mp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792000" y="1359000"/>
            <a:ext cx="2340000" cy="279072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677400" y="762120"/>
            <a:ext cx="5211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üssigkeit verdampft auch unterhalb d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edepunk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 schnellsten Moleküle verlassen die Flüssigk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d verdampfen (</a:t>
            </a:r>
            <a:r>
              <a:rPr b="0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dunstungskäl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Über der Flüssigkeit baut sich ein Druck au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nn der Druck genügend groß i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eichgewicht zwischen Dampf und Flüssigk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eichgewichtsdruck: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ampfdru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teigt ~exponentiell mit der Temperatur 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766800" y="4600440"/>
            <a:ext cx="738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edepunkt: Flüssigkeit siedet, wenn der Dampfdruck gleich d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äußeren Luftdruck i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ser kocht in der Höhe bei niedrigeren Temperatur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476640" y="446040"/>
            <a:ext cx="258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4.3 Dampfdru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1150920" y="1628640"/>
            <a:ext cx="6840720" cy="4454640"/>
          </a:xfrm>
          <a:prstGeom prst="rect">
            <a:avLst/>
          </a:prstGeom>
          <a:ln w="0">
            <a:noFill/>
          </a:ln>
        </p:spPr>
      </p:pic>
      <p:sp>
        <p:nvSpPr>
          <p:cNvPr id="706" name=""/>
          <p:cNvSpPr/>
          <p:nvPr/>
        </p:nvSpPr>
        <p:spPr>
          <a:xfrm>
            <a:off x="4392720" y="1171440"/>
            <a:ext cx="209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mpfdruckkur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478440" y="446040"/>
            <a:ext cx="36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4.4 Phasenübergäng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8" name="" descr=""/>
          <p:cNvPicPr/>
          <p:nvPr/>
        </p:nvPicPr>
        <p:blipFill>
          <a:blip r:embed="rId1"/>
          <a:srcRect l="0" t="0" r="0" b="50560"/>
          <a:stretch/>
        </p:blipFill>
        <p:spPr>
          <a:xfrm>
            <a:off x="341280" y="998640"/>
            <a:ext cx="4230720" cy="3144600"/>
          </a:xfrm>
          <a:prstGeom prst="rect">
            <a:avLst/>
          </a:prstGeom>
          <a:ln w="0">
            <a:noFill/>
          </a:ln>
        </p:spPr>
      </p:pic>
      <p:pic>
        <p:nvPicPr>
          <p:cNvPr id="709" name="" descr=""/>
          <p:cNvPicPr/>
          <p:nvPr/>
        </p:nvPicPr>
        <p:blipFill>
          <a:blip r:embed="rId2"/>
          <a:srcRect l="0" t="49615" r="0" b="0"/>
          <a:stretch/>
        </p:blipFill>
        <p:spPr>
          <a:xfrm>
            <a:off x="4392720" y="907920"/>
            <a:ext cx="4230720" cy="3205440"/>
          </a:xfrm>
          <a:prstGeom prst="rect">
            <a:avLst/>
          </a:prstGeom>
          <a:ln w="0">
            <a:noFill/>
          </a:ln>
        </p:spPr>
      </p:pic>
      <p:pic>
        <p:nvPicPr>
          <p:cNvPr id="710" name="" descr=""/>
          <p:cNvPicPr/>
          <p:nvPr/>
        </p:nvPicPr>
        <p:blipFill>
          <a:blip r:embed="rId3"/>
          <a:stretch/>
        </p:blipFill>
        <p:spPr>
          <a:xfrm>
            <a:off x="2951280" y="4371840"/>
            <a:ext cx="3058920" cy="248616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 flipH="1">
            <a:off x="5292360" y="4780080"/>
            <a:ext cx="809640" cy="1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6192360" y="460044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üssigk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H="1">
            <a:off x="5651280" y="5950080"/>
            <a:ext cx="809640" cy="1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6552360" y="577044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mp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69440" y="189000"/>
            <a:ext cx="61196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2.3. Wärmelei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t eine Materialeigenschaft, die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Wärmeleitfähigk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inheit von 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320920" y="1434960"/>
          <a:ext cx="1440000" cy="6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20920" y="1434960"/>
                    <a:ext cx="144000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523800" y="2620800"/>
            <a:ext cx="369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ispiele für Wärmeleitfähigkeit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611280" y="3203640"/>
          <a:ext cx="4487760" cy="3286080"/>
        </p:xfrm>
        <a:graphic>
          <a:graphicData uri="http://schemas.openxmlformats.org/drawingml/2006/table">
            <a:tbl>
              <a:tblPr/>
              <a:tblGrid>
                <a:gridCol w="3047760"/>
                <a:gridCol w="1440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Sto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Symbol"/>
                          <a:ea typeface="Symbol"/>
                        </a:rPr>
                        <a:t></a:t>
                      </a: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[W/Km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umini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s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p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l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0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aswol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ss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uf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88520" y="189000"/>
            <a:ext cx="7854120" cy="47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2.3. Wärmelei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echenbeispi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llerdecke habe konstant T=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, im darüberliegenden Wohnzimmer heiz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 Heizung auf T=2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che Wärmemenge wird in den Keller transportiert (pro 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nd sec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wenn der Boden mit 1cm Marmor belegt i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wenn der Boden mit 2mm Kork belegt is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ösu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063880" y="3754440"/>
          <a:ext cx="6288120" cy="201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3880" y="3754440"/>
                    <a:ext cx="6288120" cy="20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615240" y="5951520"/>
            <a:ext cx="75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ße Wärmeleitfähigkeit von Metallen ist Grund dafür, dass sich Meta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i Raumtemperatur oft “kalt” anfühl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71240" y="189000"/>
            <a:ext cx="530928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2.3. Wärmelei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itere Mechanismen für Wärmetran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Konvektion (Stofftranspo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Wärmestrahlung (alle Körper, Leistung ~ T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76280" y="189000"/>
            <a:ext cx="402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2.4. Diffusion und Osm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5240" y="804960"/>
            <a:ext cx="76010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us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nderung von Molekülen aus Gebiet mit hoher Konz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Gebiet mit geringer Konz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sache: thermische Bewegung der Molekü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ür die Teilchenstromdichte j gilt das Diffusionsgeset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: Diffusionskoeffizient (Materialeigenschaft, temperaturabhängi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c/dx: Konzentrationsgradient (Änderung der Konzentration pro Streck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ormal ähnlich zur Wärmeleitung, hier wird aber Stoff transportiert, ke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ärm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t verändert der Diffusionsstrom die Konzentration selb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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ch langer Zeit völlige Durchmisch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3389400" y="3249720"/>
          <a:ext cx="1352520" cy="80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89400" y="3249720"/>
                    <a:ext cx="1352520" cy="80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692360" y="2889360"/>
            <a:ext cx="5759280" cy="144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9480" y="30718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92360" y="1268280"/>
            <a:ext cx="287964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0" y="1268280"/>
            <a:ext cx="2879640" cy="1440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71640" y="135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050920" y="15382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30560" y="17175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09840" y="1897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32000" y="144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16286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89120" y="18082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89120" y="15382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90920" y="198900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89120" y="2168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411280" y="20764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41640" y="20764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71640" y="1898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89120" y="2168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71640" y="20764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89120" y="23479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20920" y="225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81280" y="153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81280" y="171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60560" y="171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41640" y="189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71640" y="20764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60560" y="189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50920" y="2168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771640" y="225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11280" y="24382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41640" y="23479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81280" y="225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960560" y="23493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771640" y="24382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71640" y="16286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60560" y="1449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62360" y="180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89120" y="20764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132000" y="1449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311640" y="16286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90920" y="180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70200" y="19875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92360" y="153972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72000" y="171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49840" y="189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49840" y="16286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92360" y="252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1640" y="23479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672000" y="2166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02000" y="2166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032360" y="198900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951280" y="198900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32360" y="2166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849840" y="243828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81280" y="23493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41640" y="16286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1640" y="180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20920" y="18097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02000" y="198900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32000" y="21668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0920" y="198900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311640" y="225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032360" y="23493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672000" y="25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02000" y="243828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41640" y="23493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220920" y="24400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032360" y="25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032360" y="171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21280" y="15397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22720" y="189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49840" y="21668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302000" y="2168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302000" y="198900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302000" y="18082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41640" y="135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311640" y="135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672000" y="144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21280" y="135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302000" y="16286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90920" y="1449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24400" y="189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302000" y="252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390920" y="23479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41640" y="25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92360" y="25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050920" y="252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81280" y="25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32000" y="25797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1640" y="135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20920" y="144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92360" y="135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951280" y="216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719600" y="135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98880" y="15382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078520" y="171756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57800" y="18972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079960" y="144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59240" y="162864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437080" y="18082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437080" y="15382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438880" y="198900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259240" y="20764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989600" y="20764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19600" y="189864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632480" y="19018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619600" y="20764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37080" y="234792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168880" y="225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29240" y="15382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29240" y="171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808520" y="171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989600" y="189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19600" y="20764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808520" y="189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898880" y="216864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619600" y="225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59240" y="243828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989600" y="23479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29240" y="225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808520" y="234936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619600" y="243828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619600" y="162864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708520" y="144936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710320" y="18082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81640" y="216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79960" y="144936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59600" y="16286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338880" y="18082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518160" y="198756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340320" y="153972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519960" y="171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697800" y="189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697800" y="16286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40320" y="252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059600" y="23479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19960" y="21668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249960" y="21668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880320" y="198900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99240" y="198900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880320" y="21668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697800" y="243828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429240" y="234936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889600" y="16286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89600" y="180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68880" y="180972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249960" y="198900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979960" y="216684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068880" y="198900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159600" y="225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80320" y="234936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519960" y="252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249960" y="243828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889600" y="234936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68880" y="24400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80320" y="252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880320" y="171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969240" y="153972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970680" y="189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697800" y="21668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149960" y="216864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149960" y="198900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149960" y="18082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789600" y="135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159600" y="135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519960" y="144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69240" y="135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149960" y="162864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238880" y="144936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272360" y="189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149960" y="252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238880" y="234792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889600" y="252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440320" y="252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898880" y="252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29240" y="252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079960" y="25797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889600" y="135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168880" y="144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440320" y="135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99240" y="216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871640" y="297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050920" y="315900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30560" y="333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09840" y="35179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232000" y="307008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11280" y="32497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589120" y="342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589120" y="315900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590920" y="36100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89120" y="3789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411280" y="369720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141640" y="369720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771640" y="35193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589120" y="3789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771640" y="369720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589120" y="39686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320920" y="38797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81280" y="315900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781280" y="33400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960560" y="33400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41640" y="35193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871640" y="369720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960560" y="35193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050920" y="3789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771640" y="387972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411280" y="4059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141640" y="39686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781280" y="38797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960560" y="39704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771640" y="4059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1640" y="32497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860560" y="30700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862360" y="34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589120" y="369720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132000" y="30700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311640" y="324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490920" y="342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670200" y="36082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492360" y="31608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932360" y="324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849840" y="35193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849840" y="324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2360" y="41497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751280" y="3789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672000" y="37879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402000" y="37879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032360" y="36100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951280" y="36100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032360" y="37879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849840" y="405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581280" y="39704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41640" y="324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041640" y="34304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220920" y="34304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402000" y="36100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32000" y="37879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220920" y="36100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311640" y="38797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032360" y="39704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672000" y="414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402000" y="405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041640" y="39704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220920" y="40608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751280" y="41497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032360" y="33400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121280" y="31608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022720" y="35193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49840" y="37879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572000" y="369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932360" y="36100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302000" y="342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941640" y="29797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311640" y="297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672000" y="307008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121280" y="297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302000" y="32497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390920" y="30700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424400" y="35193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302000" y="41497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390920" y="39686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041640" y="414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592360" y="414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050920" y="41497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781280" y="414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232000" y="42004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041640" y="297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320920" y="307008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592360" y="297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951280" y="378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719600" y="297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211640" y="306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078520" y="333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257800" y="35179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079960" y="307008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259240" y="324972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437080" y="342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437080" y="315900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438880" y="36100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259240" y="369720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989600" y="369720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619600" y="351936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632480" y="352260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619600" y="369720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851280" y="39686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168880" y="387972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29240" y="315900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629240" y="33400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808520" y="33400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941640" y="342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302000" y="369720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392720" y="333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121280" y="378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619600" y="387972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259240" y="405936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989600" y="39686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629240" y="387972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808520" y="39704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619600" y="405936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762360" y="315900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708520" y="307008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710320" y="342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381640" y="378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979960" y="307008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159600" y="324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338880" y="342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18160" y="360828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40320" y="31608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19960" y="33400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697800" y="351936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697800" y="324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340320" y="414972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059600" y="39686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519960" y="37879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249960" y="37879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880320" y="36100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799240" y="36100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880320" y="37879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697800" y="405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429240" y="397044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889600" y="324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889600" y="34304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068880" y="343044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249960" y="36100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979960" y="378792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068880" y="36100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159600" y="387972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880320" y="39704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519960" y="414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249960" y="405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889600" y="39704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068880" y="40608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880320" y="414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880320" y="33400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969240" y="31608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970680" y="351936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697800" y="37879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149960" y="378936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149960" y="36100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149960" y="342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789600" y="297972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159600" y="297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519960" y="307008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969240" y="297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149960" y="324972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238880" y="307008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272360" y="351936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149960" y="414972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238880" y="396864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889600" y="414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440320" y="414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898880" y="414972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629240" y="414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079960" y="42004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89600" y="297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168880" y="307008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440320" y="297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799240" y="378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692360" y="4508640"/>
            <a:ext cx="5759280" cy="1441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871640" y="459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050920" y="47782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30560" y="49579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409840" y="5137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232000" y="46893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411280" y="4869000"/>
            <a:ext cx="90720" cy="90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89120" y="50482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89120" y="47782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522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89120" y="5408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411280" y="53164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141640" y="5316480"/>
            <a:ext cx="90360" cy="90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771640" y="51386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89120" y="5408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771640" y="5316480"/>
            <a:ext cx="90720" cy="90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89120" y="558792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320920" y="549900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781280" y="477828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781280" y="495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960560" y="495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141640" y="51386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871640" y="531648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960560" y="51386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050920" y="5408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771640" y="549900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411280" y="5678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141640" y="55879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781280" y="549900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960560" y="558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771640" y="5678640"/>
            <a:ext cx="90720" cy="90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771640" y="4869000"/>
            <a:ext cx="90720" cy="90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860560" y="46893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62360" y="504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589120" y="53164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132000" y="46893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311640" y="486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490920" y="5048280"/>
            <a:ext cx="90360" cy="90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670200" y="52275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492360" y="47800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4932360" y="486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849840" y="51386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849840" y="486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492360" y="5769000"/>
            <a:ext cx="90720" cy="90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751280" y="540864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672000" y="5407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402000" y="5407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032360" y="522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51280" y="522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032360" y="5407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849840" y="567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581280" y="558972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041640" y="486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041640" y="5049720"/>
            <a:ext cx="90360" cy="90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220920" y="504972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402000" y="522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132000" y="54072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220920" y="5229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311640" y="5499000"/>
            <a:ext cx="90360" cy="90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032360" y="558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672000" y="576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402000" y="567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041640" y="558972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220920" y="56800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751280" y="576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032360" y="495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121280" y="47800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022720" y="513864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849840" y="5407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572000" y="531828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932360" y="522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302000" y="50482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941640" y="4599000"/>
            <a:ext cx="90720" cy="90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311640" y="4599000"/>
            <a:ext cx="90360" cy="90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672000" y="46893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121280" y="459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302000" y="486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390920" y="46893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4424400" y="51386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302000" y="5769000"/>
            <a:ext cx="90720" cy="903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390920" y="558792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041640" y="576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592360" y="576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050920" y="576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781280" y="576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232000" y="58197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041640" y="459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320920" y="468936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592360" y="459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951280" y="540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719600" y="459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211640" y="46879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078520" y="49579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257800" y="51372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079960" y="468936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259240" y="486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437080" y="50482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5437080" y="477828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438880" y="522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259240" y="531648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989600" y="531648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619600" y="513864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632480" y="51418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619600" y="531648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851280" y="558792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5168880" y="549900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629240" y="477828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629240" y="495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808520" y="495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941640" y="50482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302000" y="531648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392720" y="49579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121280" y="540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619600" y="549900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259240" y="567864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989600" y="558792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629240" y="549900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808520" y="558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619600" y="567864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762360" y="477828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708520" y="4689360"/>
            <a:ext cx="9072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710320" y="50482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381640" y="540864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979960" y="468936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159600" y="486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6338880" y="50482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518160" y="522756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340320" y="478008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519960" y="495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697800" y="51386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6697800" y="486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340320" y="576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059600" y="558792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519960" y="54072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249960" y="54072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6880320" y="522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799240" y="522936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880320" y="54072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6697800" y="567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429240" y="558972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889600" y="486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889600" y="504972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068880" y="504972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49960" y="522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979960" y="54072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068880" y="522936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159600" y="549900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880320" y="558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519960" y="576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6249960" y="567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889600" y="558972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068880" y="56800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880320" y="576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880320" y="49593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6969240" y="478008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970680" y="5138640"/>
            <a:ext cx="903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697800" y="54072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149960" y="540864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149960" y="522936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7149960" y="504828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789600" y="4599000"/>
            <a:ext cx="9072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159600" y="459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519960" y="468936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969240" y="459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7149960" y="486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7238880" y="468936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7272360" y="513864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7149960" y="576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238880" y="5587920"/>
            <a:ext cx="9072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5889600" y="576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440320" y="5769000"/>
            <a:ext cx="903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898880" y="5769000"/>
            <a:ext cx="9072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629240" y="576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079960" y="581976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889600" y="459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168880" y="4689360"/>
            <a:ext cx="90360" cy="9072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280" bIns="17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440320" y="459900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799240" y="5408640"/>
            <a:ext cx="90360" cy="9036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241280" y="1268280"/>
            <a:ext cx="0" cy="468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rot="10800000">
            <a:off x="874800" y="5268600"/>
            <a:ext cx="45468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76280" y="189000"/>
            <a:ext cx="402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2.4. Diffusion und Osm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476280" y="189000"/>
            <a:ext cx="402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2.4. Diffusion und Osm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21000" y="1000080"/>
            <a:ext cx="808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mo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zialfall der Diffusion bei halbdurchlässigen (semi-permeablen) Membra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1"/>
          <a:stretch/>
        </p:blipFill>
        <p:spPr>
          <a:xfrm>
            <a:off x="701640" y="2619360"/>
            <a:ext cx="4444920" cy="3340080"/>
          </a:xfrm>
          <a:prstGeom prst="rect">
            <a:avLst/>
          </a:prstGeom>
          <a:ln w="0">
            <a:noFill/>
          </a:ln>
        </p:spPr>
      </p:pic>
      <p:sp>
        <p:nvSpPr>
          <p:cNvPr id="616" name=""/>
          <p:cNvSpPr/>
          <p:nvPr/>
        </p:nvSpPr>
        <p:spPr>
          <a:xfrm>
            <a:off x="702720" y="2341440"/>
            <a:ext cx="33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löster Stoff in Lösungsmitte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" descr=""/>
          <p:cNvPicPr/>
          <p:nvPr/>
        </p:nvPicPr>
        <p:blipFill>
          <a:blip r:embed="rId2"/>
          <a:stretch/>
        </p:blipFill>
        <p:spPr>
          <a:xfrm>
            <a:off x="5486400" y="2798640"/>
            <a:ext cx="2955960" cy="3002040"/>
          </a:xfrm>
          <a:prstGeom prst="rect">
            <a:avLst/>
          </a:prstGeom>
          <a:ln w="0">
            <a:noFill/>
          </a:ln>
        </p:spPr>
      </p:pic>
      <p:sp>
        <p:nvSpPr>
          <p:cNvPr id="618" name=""/>
          <p:cNvSpPr/>
          <p:nvPr/>
        </p:nvSpPr>
        <p:spPr>
          <a:xfrm>
            <a:off x="5383080" y="235116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kroskopisc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03000" y="6130800"/>
            <a:ext cx="69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motischer Druck:                                           van’t Hoff Gleich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0" name=""/>
          <p:cNvGraphicFramePr/>
          <p:nvPr/>
        </p:nvGraphicFramePr>
        <p:xfrm>
          <a:off x="3125880" y="5859360"/>
          <a:ext cx="1716120" cy="80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5880" y="5859360"/>
                    <a:ext cx="1716120" cy="8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/>
          <p:nvPr/>
        </p:nvSpPr>
        <p:spPr>
          <a:xfrm>
            <a:off x="476640" y="189000"/>
            <a:ext cx="45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3. Hauptsätze der Wärmeleh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3.1 Zustandsdia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432360" y="2021040"/>
            <a:ext cx="8434800" cy="34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modynamischer “Zustand” eines Stoffes ist charakterisiert durch 3 Größ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uck p  Volumen V   Temperatur 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bt man 2 Größen vor, ist die dritte bestimmt. Z.B. im idealen Gasgeset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 V = n R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nn man das “Eigenvolumen” b der Moleküle und (pauschal) die Molekülkräf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berücksichtigt, erhält man die van-der-Waals-Gleichu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 + a/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(V – b) = R T               (hier ist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V/n)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478080" y="189000"/>
            <a:ext cx="37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4.3.1 Zustandsdiagram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163800" y="-261360"/>
            <a:ext cx="5717520" cy="4236480"/>
            <a:chOff x="163800" y="-261360"/>
            <a:chExt cx="5717520" cy="4236480"/>
          </a:xfrm>
        </p:grpSpPr>
        <p:sp>
          <p:nvSpPr>
            <p:cNvPr id="626" name=""/>
            <p:cNvSpPr/>
            <p:nvPr/>
          </p:nvSpPr>
          <p:spPr>
            <a:xfrm flipV="1">
              <a:off x="614520" y="906480"/>
              <a:ext cx="0" cy="261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14520" y="3517920"/>
              <a:ext cx="260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63800" y="7286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952720" y="360828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954520" y="35193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rot="11052600">
              <a:off x="748440" y="450000"/>
              <a:ext cx="5037480" cy="27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16430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164302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rot="11052600">
              <a:off x="752040" y="-79920"/>
              <a:ext cx="5036760" cy="270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16430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164302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139200" y="2889360"/>
              <a:ext cx="393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139200" y="2349360"/>
              <a:ext cx="393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5294520" y="819000"/>
            <a:ext cx="3111120" cy="3246480"/>
            <a:chOff x="5294520" y="819000"/>
            <a:chExt cx="3111120" cy="3246480"/>
          </a:xfrm>
        </p:grpSpPr>
        <p:sp>
          <p:nvSpPr>
            <p:cNvPr id="636" name=""/>
            <p:cNvSpPr/>
            <p:nvPr/>
          </p:nvSpPr>
          <p:spPr>
            <a:xfrm flipV="1">
              <a:off x="5744880" y="996840"/>
              <a:ext cx="0" cy="261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744880" y="3608280"/>
              <a:ext cx="261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294520" y="8190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8083440" y="369864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084880" y="360972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5832360" y="1185840"/>
              <a:ext cx="1620720" cy="23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>
              <a:off x="5832000" y="1544400"/>
              <a:ext cx="2251080" cy="198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7638480" y="190656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648120" y="118728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5" name=""/>
          <p:cNvGrpSpPr/>
          <p:nvPr/>
        </p:nvGrpSpPr>
        <p:grpSpPr>
          <a:xfrm>
            <a:off x="2773440" y="3782880"/>
            <a:ext cx="3111120" cy="3246480"/>
            <a:chOff x="2773440" y="3782880"/>
            <a:chExt cx="3111120" cy="3246480"/>
          </a:xfrm>
        </p:grpSpPr>
        <p:sp>
          <p:nvSpPr>
            <p:cNvPr id="646" name=""/>
            <p:cNvSpPr/>
            <p:nvPr/>
          </p:nvSpPr>
          <p:spPr>
            <a:xfrm flipV="1">
              <a:off x="3223800" y="3960720"/>
              <a:ext cx="0" cy="261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223800" y="6572160"/>
              <a:ext cx="261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773440" y="3782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562360" y="6662520"/>
              <a:ext cx="18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563800" y="6573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 flipV="1">
              <a:off x="3311280" y="4149720"/>
              <a:ext cx="1620720" cy="234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3310920" y="4508280"/>
              <a:ext cx="2251080" cy="198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117040" y="487044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126680" y="4151160"/>
              <a:ext cx="4060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1332000" y="90972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-V-Diagra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6825600" y="638280"/>
            <a:ext cx="16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-T-Diagra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6195600" y="441972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-T-Diagra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0T15:06:19Z</dcterms:created>
  <dc:creator>Klaus Desch</dc:creator>
  <dc:description/>
  <dc:language>en-US</dc:language>
  <cp:lastModifiedBy>Klaus Desch</cp:lastModifiedBy>
  <dcterms:modified xsi:type="dcterms:W3CDTF">2006-06-14T10:03:27Z</dcterms:modified>
  <cp:revision>39</cp:revision>
  <dc:subject/>
  <dc:title>Folie 1</dc:title>
</cp:coreProperties>
</file>